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491-BCFB-46B7-9679-EDBF5219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2E2-4C33-4BD0-8D19-61B0AC0F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648-0963-4263-A788-2C2CEFDB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65B-8B42-40E6-8B23-AFD431EE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476-86FC-4FAD-89DC-78F07366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4EC-810B-487B-BCB9-2277D51F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378-6EF7-4E68-B376-135BDB47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883-310E-4E5F-8E0A-E604FFAB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865-992E-43A3-83C4-8BFFFF43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CB8F-11FD-4902-BC9C-3208F0C4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269-BA00-40EE-ABF5-48125E0B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49B-E88B-4998-8EFB-BA2D3B6E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9DC0-C260-4B3B-84F1-5FDBEC1CA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19040" y="2446200"/>
            <a:ext cx="100836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1484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1440" y="3016080"/>
            <a:ext cx="100836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71760" y="24336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1484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3880" y="33321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0240" y="18381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 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22640" y="1106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68960" y="2643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65292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49400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494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58128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2933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293544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on to be 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77328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773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221472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77080" y="2214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04-24T17:36:33Z</dcterms:modified>
  <cp:revision>47</cp:revision>
  <dc:subject/>
  <dc:title>Présentation PowerPoint</dc:title>
</cp:coreProperties>
</file>